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4C3-25FA-4FE3-AA07-0B51114A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991-2786-430C-B698-50D61F22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872-6C86-482E-9DE4-A5F1DA55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2D0-B65F-4698-8532-F6BDE3D8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7A3-991E-4835-ADE9-7652E72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D4E-1C08-4C41-AAB3-F5BD2846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653-A727-4C64-9A7B-42B81DC9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A7B-B260-4941-A683-B6FA8E1B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C91-C4A9-4847-805F-8879CED9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0E5-68B2-4AAE-9191-F439C67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18B-F3C2-4A4A-91F9-BF3E55D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C68-2FCB-412C-BBFE-08F4346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AF2-7291-4175-A6D3-622CD28E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BEFORE 1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 bad Russians descended from Slavs that settled in Ukraine and Russia. In 800 A.D. the Slavs built civilization around now a day Kiev. They called it Kieven R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000 A.D. their leader accepted Eastern Orthodox Christianity. From 1200 A.D. – 1400 A.D, Mongolians ruled over the Sla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BACK WHAT WAS THE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cow became a new Slavic area named Muscovy. Their noble prince Ivan the third drove out the Mongols giving Muscovy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40:43Z</dcterms:created>
  <dc:creator> </dc:creator>
  <dc:description/>
  <dc:language>en-US</dc:language>
  <cp:lastModifiedBy> </cp:lastModifiedBy>
  <dcterms:modified xsi:type="dcterms:W3CDTF">2010-12-14T14:10:08Z</dcterms:modified>
  <cp:revision>2</cp:revision>
  <dc:subject/>
  <dc:title>HISTORY BEFORE 1917</dc:title>
</cp:coreProperties>
</file>